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559A-4495-4AB3-AD1C-AB0D7E59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4A9C-A4E1-4765-8026-ABA00358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6803-7C6B-4C2F-A568-2EB0695F0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C1AD-AF6D-47D9-8A76-36D28345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A9CA-E8AA-4FF9-82F2-FBCF8840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10C5-D31B-424B-8EC5-D8EAB4A4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F2D6-6F35-4E9E-B021-6BD265F9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754E-EAE9-4157-B513-6BCDCD97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59C9-C0F3-4B85-84CA-6FFAD03A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F7AD-4AB2-44E1-B350-CED6E433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1ACD-F0A5-4723-84EA-FC71D733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FCA8-10EE-4F7C-B74E-AD7D743C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9B6E-0987-47FC-AE31-FF7731455C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9"/>
          <p:cNvSpPr/>
          <p:nvPr/>
        </p:nvSpPr>
        <p:spPr>
          <a:xfrm flipH="1">
            <a:off x="4118040" y="557208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11"/>
          <p:cNvSpPr/>
          <p:nvPr/>
        </p:nvSpPr>
        <p:spPr>
          <a:xfrm>
            <a:off x="468360" y="3726000"/>
            <a:ext cx="835164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Лектор: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Кириллов Иван Львович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, кандидат психологических наук, доцент, заместитель директора по научной работе Института изучения детства, семьи и воспитания Российской академии образования, доцент кафедры дошкольной педагогики и психологии Московского городского психолого-педагогического университ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2"/>
          <p:cNvSpPr/>
          <p:nvPr/>
        </p:nvSpPr>
        <p:spPr>
          <a:xfrm>
            <a:off x="4367160" y="5796000"/>
            <a:ext cx="1562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3613320" y="5850000"/>
            <a:ext cx="5275080" cy="7887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ая соединительная линия 8"/>
          <p:cNvSpPr/>
          <p:nvPr/>
        </p:nvSpPr>
        <p:spPr>
          <a:xfrm>
            <a:off x="436680" y="5481720"/>
            <a:ext cx="8057880" cy="0"/>
          </a:xfrm>
          <a:prstGeom prst="line">
            <a:avLst/>
          </a:prstGeom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68360" y="97632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Вебинар:</a:t>
            </a: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«Педагогическая диагностика: особенности организации и проведения в соответствии с ФГОС ДО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660240" y="2592360"/>
            <a:ext cx="791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mbria"/>
                <a:ea typeface="Courier New"/>
              </a:rPr>
              <a:t>Наблюдение — организованное, целенаправленное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Courier New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mbria"/>
                <a:ea typeface="Courier New"/>
              </a:rPr>
              <a:t>фиксируемое восприятие повед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660240" y="1601640"/>
            <a:ext cx="79124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1.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Результаты психологической диагностики могут использоваться для решения задач психологического сопровождения и проведения квалифицированной коррекции развития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2.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Целевые ориентиры не подлежат непосредственной оценке, в том числе, в виде педагогической диагностики (мониторинга), и не являются основанием для их формального сравнения с реальными достижениями детей. Они не являются основой объективной оценки соответствия установленным требованиям образовательной деятельности и подготовки воспитан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3.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Целевые ориентиры не могут служить непосредственным основанием при решении управленческих задач, включая аттестацию педагогических кадров, оценку качества образования и т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660240" y="1601640"/>
            <a:ext cx="79124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контрольное занят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педагогическое тестир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наблюдение за детьми в специально созданных образовательных ситуация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наблюдение за детьми в повседневной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4"/>
          <p:cNvSpPr/>
          <p:nvPr/>
        </p:nvSpPr>
        <p:spPr>
          <a:xfrm>
            <a:off x="660240" y="1601640"/>
            <a:ext cx="7912440" cy="37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1.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Организационное сопровожд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buClr>
                <a:srgbClr val="00206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периодич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buClr>
                <a:srgbClr val="00206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фиксация результат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buClr>
                <a:srgbClr val="00206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использование результатов в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2.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Психологическое сопровожд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-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определение критериев и показа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-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обобщение полученных результатов для использования в практике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-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возможное уточнение полученных результатов посредством психологической диагнос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-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разработка индивидуальных программ развития ребе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4"/>
          <p:cNvSpPr/>
          <p:nvPr/>
        </p:nvSpPr>
        <p:spPr>
          <a:xfrm>
            <a:off x="660240" y="1601640"/>
            <a:ext cx="791244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1.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Нужна ли опытному педагогу педагогическая диагностик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2.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Какой должна быть поправка на педагогической опыт воспитателя при организации и проведении педагогической диагностик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3.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В какой мере принцип индивидуализации дошкольного образования распространяется на педагога и, в частности, на организацию и проведение педагогической диагностик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9193-99B9-42B1-A27E-82531E6634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3613320" y="5850000"/>
            <a:ext cx="5275080" cy="7887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ая соединительная линия 6"/>
          <p:cNvSpPr/>
          <p:nvPr/>
        </p:nvSpPr>
        <p:spPr>
          <a:xfrm>
            <a:off x="436680" y="5481720"/>
            <a:ext cx="8057880" cy="0"/>
          </a:xfrm>
          <a:prstGeom prst="line">
            <a:avLst/>
          </a:prstGeom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611280" y="206064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e79"/>
                </a:solidFill>
                <a:latin typeface="Cambria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4"/>
          <p:cNvSpPr/>
          <p:nvPr/>
        </p:nvSpPr>
        <p:spPr>
          <a:xfrm>
            <a:off x="660240" y="865080"/>
            <a:ext cx="7912440" cy="57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ФЗ "Об образовании в РФ" о требованиях к оценке результатов дошкольного образова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Функции педагогической диагностики (мониторинга) в осуществлении образовательной деятельности в дошкольных образовательных организация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Наблюдение как основной метод организации педагогической диагностики в дошкольном образован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Место и роль педагогической и психологической диагностики в решении задач индивидуализации дошкольного образования, в поддержке инициативы и самостоятельности дете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Анализ подходов к организации и проведению педагогической диагностики в дошкольных образовательных групп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Организационное и психологическое сопровождение проведения педагогической диагностики и использования ее результатов в дошкольном образован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Профессиональный опыт педагога дошкольного образования как фактор, определяющий особенности организации педагогической диагностики в детском са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2721600" y="349200"/>
            <a:ext cx="3701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ОСНОВНЫЕ ВОПРОСЫ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569880" y="2730600"/>
            <a:ext cx="800424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о требованиях к оценке результатов дошкольного образовани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Текст 2"/>
          <p:cNvSpPr/>
          <p:nvPr/>
        </p:nvSpPr>
        <p:spPr>
          <a:xfrm>
            <a:off x="1539720" y="930240"/>
            <a:ext cx="698184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79720" y="1663560"/>
            <a:ext cx="4586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Cambria"/>
                <a:ea typeface="Arial"/>
              </a:rPr>
              <a:t>Принят Государственной Думой </a:t>
            </a:r>
            <a:br>
              <a:rPr sz="2000"/>
            </a:br>
            <a:r>
              <a:rPr b="1" lang="ru-RU" sz="2000" spc="-1" strike="noStrike">
                <a:solidFill>
                  <a:srgbClr val="1f4e79"/>
                </a:solidFill>
                <a:latin typeface="Cambria"/>
                <a:ea typeface="Arial"/>
              </a:rPr>
              <a:t>21 декабря 2012 г</a:t>
            </a:r>
            <a:r>
              <a:rPr b="1" lang="en-US" sz="2000" spc="-1" strike="noStrike">
                <a:solidFill>
                  <a:srgbClr val="1f4e79"/>
                </a:solidFill>
                <a:latin typeface="Cambr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Cambria"/>
                <a:ea typeface="Arial"/>
              </a:rPr>
              <a:t>Одобрен Советом Федерации </a:t>
            </a:r>
            <a:br>
              <a:rPr sz="2000"/>
            </a:br>
            <a:r>
              <a:rPr b="1" lang="ru-RU" sz="2000" spc="-1" strike="noStrike">
                <a:solidFill>
                  <a:srgbClr val="1f4e79"/>
                </a:solidFill>
                <a:latin typeface="Cambria"/>
                <a:ea typeface="Arial"/>
              </a:rPr>
              <a:t>26 декабря 2012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Cambria"/>
                <a:ea typeface="Arial"/>
              </a:rPr>
              <a:t>Подписан Президентом РФ </a:t>
            </a:r>
            <a:br>
              <a:rPr sz="2000"/>
            </a:br>
            <a:r>
              <a:rPr b="1" lang="ru-RU" sz="2000" spc="-1" strike="noStrike">
                <a:solidFill>
                  <a:srgbClr val="1f4e79"/>
                </a:solidFill>
                <a:latin typeface="Cambria"/>
                <a:ea typeface="Arial"/>
              </a:rPr>
              <a:t>В. В. Путиным 29 декабря 2012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660240" y="1601640"/>
            <a:ext cx="7912440" cy="37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Глава 2. Система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Статья 10. Структура системы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4. В Российской Федерации устанавливаются следующие уровни общего образов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1)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mbria"/>
                <a:ea typeface="Courier New"/>
              </a:rPr>
              <a:t>дошкольное образование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2) начальное общее 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3) основное общее 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4) среднее общее образова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660240" y="1601640"/>
            <a:ext cx="7912440" cy="40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Статья 11. Федеральные государственные образовательные стандарты и федеральные государственные требования. Образовательные стандар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2. Федеральные государственные образовательные стандарты,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mbria"/>
                <a:ea typeface="Courier New"/>
              </a:rPr>
              <a:t>за исключением федерального государственного образовательного стандарта дошкольного образования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, образовательные стандарты являются 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Cambria"/>
                <a:ea typeface="Courier New"/>
              </a:rPr>
              <a:t>основой объективной оценки соответствия установленным требованиям образовательной деятельности и подготовки обучающихся, освоивших образовательные программы 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соответствующего уровня и соответствующей направленности, независимо от формы получения образования и формы обуч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660240" y="1627200"/>
            <a:ext cx="791244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Статья 11. Федеральные государственные образовательные стандарты и федеральные государственные требования. Образовательные стандар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3. Федеральные государственные образовательные стандарты включают в себя требования к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1)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mbria"/>
                <a:ea typeface="Courier New"/>
              </a:rPr>
              <a:t>структуре основных образовательных программ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(в том числе соотношению обязательной части основной образовательной программы и части, формируемой участниками образовательных отношений) и их объем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2)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mbria"/>
                <a:ea typeface="Courier New"/>
              </a:rPr>
              <a:t>условиям реализации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основных образовательных программ, в том числе кадровым, финансовым, материально-техническим и иным условия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3)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mbria"/>
                <a:ea typeface="Courier New"/>
              </a:rPr>
              <a:t>результатам освоения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 основных образовательных програм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660240" y="1627200"/>
            <a:ext cx="791244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Глава 7. Общее образов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Статья 64. Дошкольное образов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2. Образовательные программы дошкольного образования направлены на разностороннее развитие детей дошкольного возраста с учетом их возрастных и индивидуальных особенностей, в том числе достижение детьми дошкольного возраста уровня развития, необходимого и достаточного для успешного освоения ими образовательных программ начального общего образования, на основе индивидуального подхода к детям дошкольного возраста и специфичных для детей дошкольного возраста видов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Освоение образовательных программ дошкольного образования не сопровождается проведением промежуточных аттестаций и итоговой аттестации обучаю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6084720" y="6165720"/>
            <a:ext cx="2737080" cy="4096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558720" y="1690560"/>
            <a:ext cx="791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1)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индивидуализация образова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(в том числе поддержки ребёнка, построения его образовательной траектории или профессиональной коррекции особенностей его развит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2)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Cambria"/>
                <a:ea typeface="Courier New"/>
              </a:rPr>
              <a:t>оптимизация работы с группой де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643680" y="349200"/>
            <a:ext cx="7857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ФЕДЕРАЛЬНЫЙ ЗАКО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e79"/>
                </a:solidFill>
                <a:latin typeface="Cambria"/>
                <a:ea typeface="Arial"/>
              </a:rPr>
              <a:t>«ОБ ОБРАЗОВАНИИ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2T12:08:41Z</dcterms:created>
  <dc:creator>Dmytro</dc:creator>
  <dc:description/>
  <dc:language>en-US</dc:language>
  <cp:lastModifiedBy>Bars</cp:lastModifiedBy>
  <dcterms:modified xsi:type="dcterms:W3CDTF">2016-05-24T09:34:28Z</dcterms:modified>
  <cp:revision>25</cp:revision>
  <dc:subject/>
  <dc:title>Название презентации</dc:title>
</cp:coreProperties>
</file>