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100-CEA1-4EA2-9901-1E7A9475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6AD-3704-42D1-9EAF-82EDC8DE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051-3C9E-4F09-A2B7-D9826059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91C-2CD9-4341-9C39-0D43BD3A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19D-E672-477F-B555-426D7E4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2DC-D3A6-4FA1-9749-3A856081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D47-531E-426A-A44E-FC016E6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27A-133C-4027-8896-9D240BF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338-C41D-4290-BC6C-81F7C47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D19-999D-473E-AAAD-8C8438F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56B-F783-42B2-8724-28F1DD6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31A-6A1E-4B87-82B2-039BB64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9977-8B74-4B22-AB16-8FB0693EC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468360" y="3726000"/>
            <a:ext cx="8351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ектор: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Кириллов Иван Львови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, кандидат психологических наук, доцент, заместитель директора по научной работе Института изучения детства, семьи и воспитания Российской академии образования, доцент кафедры дошкольной педагогики и психологии Московского городского психолого-педагогического универс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8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68360" y="97632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ебинар:</a:t>
            </a: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«Педагогическая диагностика: особенности организации и проведения в соответствии с ФГОС Д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660240" y="2592360"/>
            <a:ext cx="791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— организованное, целенаправленное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ируемое восприятие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660240" y="1601640"/>
            <a:ext cx="7912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подлежат непосредственной оценке, в том числе, в виде педагогической диагностики (мониторинга), и не являются основанием для их формального сравнения с реальными достижениями детей. Они не являются основой объективной оценки соответствия установленным требованиям образовательной деятельности и подготовки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могут служить непосредственным основанием при решении управленческих задач, включая аттестацию педагогических кадров, оценку качества образования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60240" y="1601640"/>
            <a:ext cx="7912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онтрольное занят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дагогическое тест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специально созданных образовательных ситуа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повседневной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660240" y="1601640"/>
            <a:ext cx="791244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риодич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ация результа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спользование результатов в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сихологическ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ределение критериев и показ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бобщение полученных результатов для использования в практик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озможное уточнение полученных результатов посредством психологической диа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азработка индивидуальных программ развития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660240" y="1601640"/>
            <a:ext cx="7912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ужна ли опытному педагогу педагогическая диагности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акой должна быть поправка на педагогической опыт воспитателя при организации и проведении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 какой мере принцип индивидуализации дошкольного образования распространяется на педагога и, в частности, на организацию и проведение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28E-824A-4222-B4D6-D0A4B2145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6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11280" y="206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Cambr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0240" y="865080"/>
            <a:ext cx="791244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З "Об образовании в РФ" о требованиях к оценке результатов дошко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ункции педагогической диагностики (мониторинга) в осуществлении образовательной деятельности в дошкольных образовательных организац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как основной метод организации педагогической диагностики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Место и роль педагогической и психологической диагностики в решении задач индивидуализации дошкольного образования, в поддержке инициативы и самостоятельности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Анализ подходов к организации и проведению педагогической диагностики в дошкольных образовательных груп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и психологическое сопровождение проведения педагогической диагностики и использования ее результатов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рофессиональный опыт педагога дошкольного образования как фактор, определяющий особенности организации педагогической диагностики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721600" y="349200"/>
            <a:ext cx="3701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СНОВНЫЕ ВОПРОСЫ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69880" y="2730600"/>
            <a:ext cx="80042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 требованиях к оценке результатов дошкольного образ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Текст 2"/>
          <p:cNvSpPr/>
          <p:nvPr/>
        </p:nvSpPr>
        <p:spPr>
          <a:xfrm>
            <a:off x="1539720" y="930240"/>
            <a:ext cx="698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79720" y="1663560"/>
            <a:ext cx="4586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ринят Государственной Думой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1 декабря 2012 г</a:t>
            </a:r>
            <a:r>
              <a:rPr b="1" lang="en-US" sz="2000" spc="-1" strike="noStrike">
                <a:solidFill>
                  <a:srgbClr val="1f4e79"/>
                </a:solidFill>
                <a:latin typeface="Cambr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Одобрен Советом Федерации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6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одписан Президентом РФ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В. В. Путиным 29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660240" y="1601640"/>
            <a:ext cx="791244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2. Система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0. Структур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. В Российской Федерации устанавливаются следующие уровни обще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дошкольное образование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началь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основ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) среднее общее образ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660240" y="1601640"/>
            <a:ext cx="791244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Федеральные государственные образовательные стандарты,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за исключением федерального государственного образовательного стандарта дошкольного образова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, образовательные стандарты являются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основой объективной оценки соответствия установленным требованиям образовательной деятельности и подготовки обучающихся, освоивших образовательные программы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оответствующего уровня и соответствующей направленности, независимо от формы получения образования и формы обу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660240" y="1627200"/>
            <a:ext cx="7912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Федеральные государственные образовательные стандарты включают в себя требования 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структуре основных образовательных программ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(в том числе соотношению обязательной части основной образовательной программы и части, формируемой участниками образовательных отношений) и их объ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условиям реализации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, в том числе кадровым, финансовым, материально-техническим и иным услов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результатам освое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660240" y="1627200"/>
            <a:ext cx="791244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7. Обще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64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Образовательные программы дошкольного образования направлены на разностороннее развитие детей дошкольного возраста с учетом их возрастных и индивидуальных особенностей, в том числе достижение детьми дошкольного возраста уровня развития, необходимого и достаточного для успешного освоения ими образовательных программ начального общего образования, на основе индивидуального подхода к детям дошкольного возраста и специфичных для детей дошкольного возраста видов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558720" y="169056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ндивидуализация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(в том числе поддержки ребёнка, построения его образовательной траектории или профессиональной коррекции особенностей его развит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тимизация работы с группой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2:08:41Z</dcterms:created>
  <dc:creator>Dmytro</dc:creator>
  <dc:description/>
  <dc:language>en-US</dc:language>
  <cp:lastModifiedBy>Bars</cp:lastModifiedBy>
  <dcterms:modified xsi:type="dcterms:W3CDTF">2016-05-24T09:34:28Z</dcterms:modified>
  <cp:revision>25</cp:revision>
  <dc:subject/>
  <dc:title>Название презентации</dc:title>
</cp:coreProperties>
</file>